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FEC-6A98-46A2-8155-7A4C3FC9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E75-3269-4602-A763-F1F713D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29F-0E5B-40A9-994C-61751599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B2A-ABA5-4186-B5D2-5DBE717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DDA-4A29-4C3C-B28F-BDEC99BB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D62-491C-4374-8D5E-51B8D194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839-366D-4FC6-B8E0-5E264C1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34D-27A6-44C7-AC66-C5F7A3FE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A01-40CF-41CB-8AFB-F271A420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58D-ECCC-4B9D-9FD7-1E36B5B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23D-25F7-4C89-9CF4-2FA803A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993-6961-48C8-8597-4869BCC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704E-D25E-47AC-83DE-A700D2E353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0 Už dňa chví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dňa chvíle zlé aj mil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šli do minul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čas každý raz sa na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tí v mori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a denne, stále chc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lásku veleb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 nás pýchy, odpusť hriech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a česť tvoj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, Pane, dni nám da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žiť v tvojej blízk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nám k dielu chuť a si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ás cestou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8:47:15Z</dcterms:modified>
  <cp:revision>54</cp:revision>
  <dc:subject/>
  <dc:title>Je veľký náš Pán, on slávy je Kráľ Nech do všetkých strán  spev vrúcnych znie chvál.</dc:title>
</cp:coreProperties>
</file>